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105E-A613-41AB-894F-60CDC39C2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A320-4E39-44AD-9864-AEAAF440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8B02-C6C0-43A2-982B-E6E5C579F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B8BB-3956-4576-9B1A-8CE5F4268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8E68-2AD4-4798-BE16-7290C3FC9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61B3-63D4-4B69-BA7B-DA27E9D4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F7DB-55C5-4A9E-9DD3-18CB8ADA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F4FF-1AE6-4BF2-9A87-0F34602D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366F-80D0-4913-B92C-CD8780E6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B47F-33D7-4F13-9DAB-E69AF849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F602-8D2C-4604-8BB4-D9AC9BF9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765A-D247-4931-9CB0-97797BD5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D194-3142-4559-A3FA-B0946099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1F06-BDA5-455E-AA76-847F689A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E2CC-98B3-4E22-BD4C-89C491F8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4F9C-9B1C-45D2-9491-9E0A6F5F6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9A89-2C91-427D-84DB-98C04F717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D11E-80C5-42D9-860F-425D1D34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CCE4-D03C-4285-9AF3-C5A807CA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3D74-FCEF-4F44-86F1-C669A799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7428-944D-4C1A-B862-DB0CA62C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1B3A-9C19-4052-9421-371740B0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1E0E-5FB9-4241-98E9-4CC85D22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15E4-0594-46E0-8619-B23CEA17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40CC-1FAD-41FD-B782-111858E3F3D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35C0-D842-4F1D-B49A-A91C5FD4759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700" spc="-1" strike="noStrike">
                <a:solidFill>
                  <a:srgbClr val="ffffcc"/>
                </a:solidFill>
                <a:latin typeface="Arial"/>
              </a:rPr>
              <a:t>The Changing Marketing Environmen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Chapter 3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The Uncontrollable Environm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his chapter takes an in-depth look at the uncontrollable marketing environment in Canada toda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Organizations cannot effect the marketing environment, instead they are affected by it.  Successful organizations spot trends in the environment and capitalise on these trend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The Environmental For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Remembering from Chapter 1, The uncontrollable factors include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ocial Forc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Economic Forc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Technological Forc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Competitive Forc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Regulatory Forc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The Environmental For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Social Forc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646200" indent="-24840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Social forces relate to changes, and events that are occurring in society.  Key indicators of change are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994320" indent="-19872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Demographic Shif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92120" indent="-19872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Demographics is a study/measure of peoples ages, sex, income levels, where they live, and ethnicity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3" marL="1392120" indent="-19872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Be aware or key terms such as Mature Housholds,  Baby Boomers, Generation X, Blended Families and Regional Marketing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994320" indent="-19872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Cultural Change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92120" indent="-19872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Culture is a reflection of a societies shared values and Beliefs.  Attitudes are changing and so is the makeup of our society.  People are more conscious of Value and the Natural Environmen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The Environmental For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Economic Forc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Economics deals with issues of income and expenditures in our society.  Key measures of change in economic conditions arise from changes in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08440" indent="-2214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The Canadian economy at large (macroeconomic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08440" indent="-2214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Consumer Incom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4" marL="1995480" indent="-221400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Gross Income - Taxes = Disposable Incom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995480" indent="-221400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Disposable Income - necessities = Discretionary Incom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The Environmental For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echnological Forc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Technology is changing faster than ever.  Witness how quickly your new computer will become obsolet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This rapid change poses quite a large challenge for many organization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E-Busines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The Internet has made doing business anywhere &amp; anytime possibl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The Environmental For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Competitive Forc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Competition refers to the number of alternatives a consumer has when buying a particular product or service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062720" indent="-2124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There are varying degrees of competitive environment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487880" indent="-21240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Monopoly - No Competition - only one selle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3" marL="1487880" indent="-21240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Oligopoly - Limited Competition - Two or three seller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3" marL="1487880" indent="-21240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Monopolistic Competition - Many sellers offering substitutable products (Coke, Pepsi, Orange Juice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3" marL="1487880" indent="-21240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Pure Competition - Many sellers selling similar or same product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The Environmental For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Components of Competi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Barriers to Entr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Competition may affect a company’s ability to enter a market easily.  There may be many Barriers to Entry in place to limit the growth of competi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Suppliers of raw material may help limit competition in an industry by refusing to sell to a new entrant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Buyers of products may aid in limited competition by being reluctant to buy from an new entrant into the market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Competitors may try to limit competition buy forcing new entrants out of the market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Global Competition has helped to increase the overall level of competition.  Many companies are forming world-wide partnerships called Strategic Alliance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The Environmental For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Regulatory Forc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Regulation is a basic set of rules/laws set down by either the industry in question (self-regulation) or by government that effects how that business operates.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Most regulation is designed to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062720" indent="-2124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Protect Customers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062720" indent="-2124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Protect Competi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To stem off government imposed regulation, many industries have decided to self-regulat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Consumerism is a movement among consumers to fight for better protection from bad or corrupt business practices and bad product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8T17:51:22Z</dcterms:created>
  <dc:creator>Debbie Vincent</dc:creator>
  <dc:description/>
  <dc:language>en-US</dc:language>
  <cp:lastModifiedBy>Paul Tilley</cp:lastModifiedBy>
  <dcterms:modified xsi:type="dcterms:W3CDTF">2003-09-26T12:45:04Z</dcterms:modified>
  <cp:revision>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ville.northatlantic.nf.ca/~ptilley</vt:lpwstr>
  </property>
  <property fmtid="{D5CDD505-2E9C-101B-9397-08002B2CF9AE}" pid="9" name="LinkColor">
    <vt:r8>16711782</vt:r8>
  </property>
  <property fmtid="{D5CDD505-2E9C-101B-9397-08002B2CF9AE}" pid="10" name="MailAddress">
    <vt:lpwstr>ptilley@cville.northatlantic.nf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Homepage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